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11111"/>
                </a:solidFill>
                <a:latin typeface="Times New Roman"/>
              </a:rPr>
              <a:t>Click to move the slide</a:t>
            </a:r>
            <a:endParaRPr b="0" lang="en-US" sz="61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D717D-DD2A-4240-997E-8A9DCA25FAE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l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560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838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82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560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2838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560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2838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82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4560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2838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11111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1" marL="228600" indent="-227160">
              <a:lnSpc>
                <a:spcPct val="109000"/>
              </a:lnSpc>
              <a:spcBef>
                <a:spcPts val="1712"/>
              </a:spcBef>
              <a:buClr>
                <a:srgbClr val="3399ff"/>
              </a:buClr>
              <a:buFont typeface="Arial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2" marL="627120" indent="-284040">
              <a:lnSpc>
                <a:spcPct val="109000"/>
              </a:lnSpc>
              <a:spcBef>
                <a:spcPts val="1712"/>
              </a:spcBef>
              <a:buClr>
                <a:srgbClr val="3399ff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3" marL="1712880" indent="-22860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4" marL="2052720" indent="-22536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5" marL="2052720" indent="-22536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6" marL="2052720" indent="-22536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1599840"/>
            <a:ext cx="73152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11111"/>
                </a:solidFill>
                <a:latin typeface="Times New Roman"/>
              </a:rPr>
              <a:t>Click to edit the title text format</a:t>
            </a:r>
            <a:endParaRPr b="0" lang="en-US" sz="61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1" marL="1440" indent="0" algn="ctr">
              <a:lnSpc>
                <a:spcPct val="109000"/>
              </a:lnSpc>
              <a:spcBef>
                <a:spcPts val="1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2" marL="343080" algn="ctr">
              <a:lnSpc>
                <a:spcPct val="109000"/>
              </a:lnSpc>
              <a:buClr>
                <a:srgbClr val="3399ff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3" marL="857160" indent="627120" algn="ctr">
              <a:spcBef>
                <a:spcPts val="499"/>
              </a:spcBef>
              <a:buClr>
                <a:srgbClr val="111111"/>
              </a:buClr>
              <a:buFont typeface="Times New Roman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4" marL="1200240" indent="627120" algn="ctr">
              <a:spcBef>
                <a:spcPts val="499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5" marL="1200240" indent="627120">
              <a:spcBef>
                <a:spcPts val="499"/>
              </a:spcBef>
              <a:buClr>
                <a:srgbClr val="11111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6" marL="1200240" indent="627120">
              <a:spcBef>
                <a:spcPts val="499"/>
              </a:spcBef>
              <a:buClr>
                <a:srgbClr val="11111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206360" y="4335480"/>
            <a:ext cx="7315200" cy="14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algn="ctr">
              <a:lnSpc>
                <a:spcPct val="109000"/>
              </a:lnSpc>
              <a:spcBef>
                <a:spcPts val="13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ar-SA" sz="19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29 </a:t>
            </a:r>
            <a:r>
              <a:rPr b="0" lang="ar-SA" sz="1900" spc="-1" strike="noStrike">
                <a:solidFill>
                  <a:srgbClr val="ffffff"/>
                </a:solidFill>
                <a:latin typeface="Arial"/>
                <a:cs typeface="Times New Roman (Arabic)"/>
              </a:rPr>
              <a:t>أبريل </a:t>
            </a:r>
            <a:r>
              <a:rPr b="0" lang="ar-SA" sz="19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2003</a:t>
            </a:r>
            <a:endParaRPr b="0" lang="en-US" sz="19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070720" y="2741760"/>
            <a:ext cx="542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ب</a:t>
            </a: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رنامج الأعداد لأمتحان المتوسط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ادة المراجع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1038240" y="407880"/>
            <a:ext cx="7315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ج</a:t>
            </a:r>
            <a:r>
              <a:rPr b="0" lang="ar-SA" sz="36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عية المحاسبيين والمراجعيين المصرية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20" name="Boatblueoverlay" descr=""/>
          <p:cNvPicPr/>
          <p:nvPr/>
        </p:nvPicPr>
        <p:blipFill>
          <a:blip r:embed="rId1"/>
          <a:stretch/>
        </p:blipFill>
        <p:spPr>
          <a:xfrm>
            <a:off x="7848720" y="23508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7061040" y="65833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848720" y="2332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984240"/>
            <a:ext cx="862956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620640" y="1700280"/>
          <a:ext cx="8218440" cy="5087880"/>
        </p:xfrm>
        <a:graphic>
          <a:graphicData uri="http://schemas.openxmlformats.org/drawingml/2006/table">
            <a:tbl>
              <a:tblPr/>
              <a:tblGrid>
                <a:gridCol w="5218200"/>
                <a:gridCol w="3000240"/>
              </a:tblGrid>
              <a:tr h="91116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5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تقارير المخاطر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678680">
                <a:tc>
                  <a:txBody>
                    <a:bodyPr lIns="0" rIns="274320" tIns="0" bIns="46800" anchor="t">
                      <a:noAutofit/>
                    </a:bodyPr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6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- تقارير ورش العمل عن مشاكل المخاطر والرقابة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249264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7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لتقارير الشهرية والسنوية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>
            <a:off x="620640" y="1700280"/>
            <a:ext cx="535932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ارير تتضمن تحليلا لجوانب المخاطر التى تتعرض لها المنشأة من حيث احتمالتها وتاثيرت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ضمن المخاطر واساليب الرقابة المستخدمة  لتحقيق متطلبات حوكمة الشركات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20640" y="2847960"/>
            <a:ext cx="540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380880" indent="-2793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رش عمل  مع الأدارات المختصة لمناقشة الأراء المختلفة والأساليب البديلة لتحقيق الأهداف وتتضمن عادة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279360" algn="r" rtl="1">
              <a:lnSpc>
                <a:spcPct val="99000"/>
              </a:lnSpc>
              <a:buClr>
                <a:srgbClr val="3399ff"/>
              </a:buClr>
              <a:buFont typeface="Wingdings" charset="2"/>
              <a:buChar char="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جالات الخطر الرئيسية التى تم تحديد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279360" algn="r" rtl="1">
              <a:lnSpc>
                <a:spcPct val="99000"/>
              </a:lnSpc>
              <a:buClr>
                <a:srgbClr val="3399ff"/>
              </a:buClr>
              <a:buFont typeface="Wingdings" charset="2"/>
              <a:buChar char="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يان احتمالات حدوث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279360" algn="r" rtl="1">
              <a:lnSpc>
                <a:spcPct val="99000"/>
              </a:lnSpc>
              <a:buClr>
                <a:srgbClr val="3399ff"/>
              </a:buClr>
              <a:buFont typeface="Wingdings" charset="2"/>
              <a:buChar char="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راءات التى تم الأتفاق على اتخاذها بهذا الشأن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90720" y="4335480"/>
            <a:ext cx="4952880" cy="262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يجب اعداد تقارير شهرية وسنوية للأدارة لتوفر لها التأكيد المناسب عن مستوى المخاطر والرقابة ومدى الألتزام بمتطلبات الحوكمة  وتوضح صورة شاملة لهذه الأوضاع وتشتمل عادة على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إحصائيات الأداء لأدارة المراجعة الداخلية  بما فيها ما تم انجازه طبقا للمعايير المتفق علي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ملخص التوصيات القائمة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مخاطر الحددة والتى لم يتم اعداد تقارير عن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خطط المراجعة الداخل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20640" y="165240"/>
            <a:ext cx="6888240" cy="9777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1520"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نواع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لتقارير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حيث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لمضمون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</a:t>
            </a:r>
            <a:r>
              <a:rPr b="0" lang="ar-SA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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30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20640" y="2131920"/>
          <a:ext cx="8218440" cy="4334040"/>
        </p:xfrm>
        <a:graphic>
          <a:graphicData uri="http://schemas.openxmlformats.org/drawingml/2006/table">
            <a:tbl>
              <a:tblPr/>
              <a:tblGrid>
                <a:gridCol w="5217840"/>
                <a:gridCol w="3000600"/>
              </a:tblGrid>
              <a:tr h="196560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9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لتقارير الرسمية 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927360">
                <a:tc>
                  <a:txBody>
                    <a:bodyPr lIns="0" rIns="274320" tIns="0" bIns="46800" anchor="t">
                      <a:noAutofit/>
                    </a:bodyPr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lvl="1" marL="401760" indent="-400320" algn="r" rtl="1">
                        <a:lnSpc>
                          <a:spcPct val="109000"/>
                        </a:lnSpc>
                        <a:spcBef>
                          <a:spcPts val="1363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10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لمذكرات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99960" indent="-399960"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buClr>
                          <a:srgbClr val="3399ff"/>
                        </a:buClr>
                        <a:buFont typeface="Times New Roman"/>
                        <a:buChar char="-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44108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marL="399960" indent="-399960"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11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تقارير بأسلوب التصنيف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"/>
          <p:cNvSpPr/>
          <p:nvPr/>
        </p:nvSpPr>
        <p:spPr>
          <a:xfrm>
            <a:off x="812880" y="5067360"/>
            <a:ext cx="4952880" cy="15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تصنيف أو ترميز التقارير طبقا لأهميت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بأستخدام الألوان( احمر أصفر اخضر)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بأستخدام الأرقام/ الحروف ( </a:t>
            </a:r>
            <a:r>
              <a:rPr b="1" lang="ar-SA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1,2,3</a:t>
            </a:r>
            <a:r>
              <a:rPr b="1" lang="ar-SA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)  (أ, ب,ج )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بأستخدام عبارات (مقبول, مرضى, غير مقبول, غير مرضى)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20640" y="1512720"/>
            <a:ext cx="538632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48276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3120" y="2144880"/>
            <a:ext cx="55753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111111"/>
                </a:solidFill>
                <a:uFillTx/>
                <a:latin typeface="Times New Roman"/>
                <a:cs typeface="Times New Roman"/>
              </a:rPr>
              <a:t>ويشتمل عادة عل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لخص تنفيذى يتضمن نطاق العمل واسلوبه واهداف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- الأستنتاج الذى تم التوصل اليه والرأى                                                                                       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- يجب ان يكون واضحا وكافيا لإحاطة القارئ بالنقاط الرئيس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- يعطى الأنطباع المطلوب دون الرجوع الى تفاصيل  كثي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لخص النتائج والتوصيات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نتائج التفصيلية والخطوات المتفق عليها للأصلاح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لاحق التقرير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-66960" y="4175280"/>
            <a:ext cx="68018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ذكرات مختصرة مناسبة للمراجعات الصغيرة لاتحتاج لتقرير كامل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ضمن نتائج المراجع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20640" y="165240"/>
            <a:ext cx="6888240" cy="9777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1520"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نواع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لتقارير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حيث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لشكل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20640" y="1446120"/>
            <a:ext cx="7888320" cy="5079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22320" y="1555920"/>
            <a:ext cx="74516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رض السليم للتقرير يساعد على توصيل النتائج للمستويات الأدارية المختلفة بصورة واضحة تزيد من فعاليته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676440" y="2135160"/>
            <a:ext cx="778824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rmAutofit/>
          </a:bodyPr>
          <a:p>
            <a:pPr algn="ctr">
              <a:lnSpc>
                <a:spcPct val="109000"/>
              </a:lnSpc>
              <a:spcBef>
                <a:spcPts val="27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ar-SA" sz="4000" spc="-1" strike="noStrike">
                <a:solidFill>
                  <a:srgbClr val="ffe28f"/>
                </a:solidFill>
                <a:latin typeface="Times New Roman"/>
                <a:cs typeface="Bold Italic Art"/>
              </a:rPr>
              <a:t>استراحة</a:t>
            </a:r>
            <a:endParaRPr b="0" lang="en-US" sz="40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9000"/>
              </a:lnSpc>
              <a:spcBef>
                <a:spcPts val="16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ar-SA" sz="2400" spc="-1" strike="noStrike">
                <a:solidFill>
                  <a:srgbClr val="ffe28f"/>
                </a:solidFill>
                <a:latin typeface="Times New Roman"/>
                <a:ea typeface="Times New Roman"/>
              </a:rPr>
              <a:t>5 </a:t>
            </a:r>
            <a:r>
              <a:rPr b="0" lang="ar-SA" sz="2400" spc="-1" strike="noStrike">
                <a:solidFill>
                  <a:srgbClr val="ffe28f"/>
                </a:solidFill>
                <a:latin typeface="Times New Roman"/>
                <a:cs typeface="Times New Roman"/>
              </a:rPr>
              <a:t>دقائق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9000"/>
              </a:lnSpc>
              <a:spcBef>
                <a:spcPts val="1987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9000"/>
              </a:lnSpc>
              <a:spcBef>
                <a:spcPts val="1987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11120" y="1063800"/>
            <a:ext cx="791676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46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20640" y="228600"/>
            <a:ext cx="721836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فحص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وتقييم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خارجى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لأعمال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171880" y="2131920"/>
            <a:ext cx="604980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952560" indent="-851040" algn="r" rtl="1">
              <a:lnSpc>
                <a:spcPct val="99000"/>
              </a:lnSpc>
              <a:buClr>
                <a:srgbClr val="3399ff"/>
              </a:buClr>
              <a:buSzPct val="15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دى استقلالية المراجع الداخلى وموضوعيته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984400" y="3110040"/>
            <a:ext cx="522468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952560" indent="-952560" algn="r" rtl="1">
              <a:lnSpc>
                <a:spcPct val="99000"/>
              </a:lnSpc>
              <a:buClr>
                <a:srgbClr val="3399ff"/>
              </a:buClr>
              <a:buSzPct val="15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طاق عمل المراجع الداخلى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22560" y="4240080"/>
            <a:ext cx="522468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952560" indent="-952560" algn="r" rtl="1">
              <a:lnSpc>
                <a:spcPct val="99000"/>
              </a:lnSpc>
              <a:buClr>
                <a:srgbClr val="3399ff"/>
              </a:buClr>
              <a:buSzPct val="15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كفأة المهنية للمراجعين الداخلييين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55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20640" y="228600"/>
            <a:ext cx="721836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decfe"/>
                </a:solidFill>
                <a:latin typeface="Times New Roman"/>
                <a:cs typeface="Times New Roman"/>
              </a:rPr>
              <a:t>مدى استقلالية المراجع الداخلى وموضوعيته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30720" y="1522440"/>
            <a:ext cx="2959200" cy="8269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028880" y="1496880"/>
            <a:ext cx="2958840" cy="8272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0" y="2463840"/>
            <a:ext cx="4216320" cy="39877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66760" y="2489040"/>
            <a:ext cx="4216320" cy="39880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61120" y="1700280"/>
            <a:ext cx="25030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وقع التنظيمى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855800" y="1700280"/>
            <a:ext cx="161784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وضوعية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606920" y="2523960"/>
            <a:ext cx="418932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5872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يكون مدير المراجعة الداخلية مسئولا امام شخص له من السلطة  ما يضمن الأهتمام بتقريره ووضع توصياته محل التنفيذ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606920" y="3260880"/>
            <a:ext cx="418932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5872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يكون لمدير المراجعة الداخلية اتصال مباشر مع مجلس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632480" y="3870360"/>
            <a:ext cx="41893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5872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عتماد مجلس الأدارة لتعيين اوتغيير مدير المراجعة الداخلية يساعد على تدعيم استقلاليت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683240" y="4606920"/>
            <a:ext cx="418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توصيف موثق لسلطات ومسئوليات مدير المراجعة الداخلية يتتضمن :-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ضع الأدارة فى الهيكل التنظيمى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ق المراجع فى الأطلاع على كافة المستندات والأتصال بالأفراد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صف مجال عمل المراجعة الداخلية ومدا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56160" y="5952960"/>
            <a:ext cx="41893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ديم تقريره السنوى الى مجلس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76120" y="2511360"/>
            <a:ext cx="418968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لايتولى المراجعون اعمال تنفيذية وفى حالة نقل شخص الى الأدارة يجب الأ يراجع الجهة التى كان بها قبل فترة زمنية مناسب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1680" y="3286080"/>
            <a:ext cx="41893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راعى  تكليف المراجعيين بأعمال فى مجالات لاتكون بينهم وبين المسئولين عنها خلافات شخصية اوتحيز لصالحهم اوضدهم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76120" y="4073400"/>
            <a:ext cx="41896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على مدير المراجعة ان يغير مجال عمل المراجعين دوري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76120" y="4403880"/>
            <a:ext cx="41896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على المراجع الداخلى ان يوضح لمديره أى احتمالات نقص حياد نتيجة تعامله مع الأشخاص المكلف بمراجعة اعمالهم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6120" y="4924440"/>
            <a:ext cx="4189680" cy="8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عرض نتائج المراجعة على الأشخاص الذين تمت مراجعة اعمالهم قبل تقديم تقريره النهائى لضمان الموضوعية ومنعا لحدوث لبس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6120" y="5775480"/>
            <a:ext cx="4189680" cy="10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اتتأثر استقلالية المراجع اذا اوصى بتطبيق معايير رقابية معينة للنظم او اذا فحص الأجراءات وعلق عليها قبل تنفيذها  , تصميم النظم وتطبيقها ليس من وظائف المراجعة الداخل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78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حدي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نطاق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562720" y="4229280"/>
            <a:ext cx="2806560" cy="812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524560" y="2690640"/>
            <a:ext cx="2806560" cy="8128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549760" y="5613480"/>
            <a:ext cx="280692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270080" y="1332000"/>
            <a:ext cx="6375240" cy="73476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11080" y="2755800"/>
            <a:ext cx="280692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87400" y="5600880"/>
            <a:ext cx="280656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12960" y="427824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041480" y="1700280"/>
            <a:ext cx="758196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مكن تقسيم اعمال المراجعة الداخلية الى فرعين اساسيين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09680" y="2413080"/>
            <a:ext cx="4788000" cy="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209680" y="2425680"/>
            <a:ext cx="0" cy="3175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997680" y="2425680"/>
            <a:ext cx="0" cy="279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46440" y="2146320"/>
            <a:ext cx="0" cy="26676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90280" y="2854440"/>
            <a:ext cx="29970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مراجعة المحاسبية والم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/Accounting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440" y="2828880"/>
            <a:ext cx="37940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عمليات او المراجعة الأدا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al Audit/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85080" y="3517920"/>
            <a:ext cx="0" cy="711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972480" y="5054760"/>
            <a:ext cx="0" cy="60948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46440" y="4467240"/>
            <a:ext cx="281736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وتقييم نظم الرقابة</a:t>
            </a:r>
            <a:r>
              <a:rPr b="1" lang="ar-E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 بالمنشأ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968360" y="5661000"/>
            <a:ext cx="38383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معلومات التى تصدرها النظم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للتأكد من مصداقيتها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35240" y="3568680"/>
            <a:ext cx="0" cy="698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52240" y="4378320"/>
            <a:ext cx="3589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وتقييم نظم إدارة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لحوكم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5079960"/>
            <a:ext cx="0" cy="5209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28840" y="5749920"/>
            <a:ext cx="38318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جوانب الغير محاسب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أدارية , مراجعة العمليات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306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حدي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نطاق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20640" y="1700280"/>
            <a:ext cx="8218440" cy="6364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96240" y="1878120"/>
            <a:ext cx="842220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بقا للمفاهيم الحديثة فان نطاق عمل المراجعة الداخلية يمتد ليشمل مجالات متعددة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0640" y="24638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-908280" y="2714760"/>
            <a:ext cx="1146888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هتم المراجع الخارجى المكلف بمراجعة القوائم المالية بنطاق عمل المراجع الداخلى فى المجالات المحاسبية والم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20640" y="34034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-63360" y="3565440"/>
            <a:ext cx="10357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لى المراجع الداخلى فحص برامج المراجعة الداخلية واوراق عملها لتحديد المجالات التى شملتها المراجع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318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كفأ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هن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للمراجعي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ين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20640" y="1700280"/>
            <a:ext cx="8218440" cy="6364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464200" y="1878120"/>
            <a:ext cx="74210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طاء اهتمام خاص بدراسة وتقييم الكفأة المهنية للمراجعين الداخلية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20640" y="24638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20640" y="34034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705920" y="3565440"/>
            <a:ext cx="4732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توافر الكفأة المهنية بالأضافة للأستقل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44600" y="2525760"/>
            <a:ext cx="839628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شمل تقييم مؤهلاتهم العلمية وخبراتهم العملية وعلاقتها بأعمال المراجعة المسندة لهم, بالأ ضافة  الى خبرة المراجع الخارجى السابقة فى التعامل معهم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330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ييم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معي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عما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ب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غرض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عتما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خارجى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ليه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20640" y="1332000"/>
            <a:ext cx="8129520" cy="96336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41480" y="1700280"/>
            <a:ext cx="75819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ذا قرر المراجع الخارجى استخدام عمل محدد من اعمال المراجعة الداخلية والأعتماد عليه كأساس لتحديد طبيعة وتوقيت ومدى إجراءات مراجعته فيجب عليه التأكد مما يلى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20640" y="2463840"/>
            <a:ext cx="8167680" cy="39877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20640" y="2854440"/>
            <a:ext cx="81374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فاية نطاق وبرامج المراجعة الداخلية لاغراض المراجع الخارجى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20640" y="3260880"/>
            <a:ext cx="81374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لامة التخطيط لعمل المراجعة الداخلية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20640" y="3654360"/>
            <a:ext cx="81374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وافر الأشراف على اعمال المساعدين وفحص وتسجيل اعمالهم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20640" y="4060800"/>
            <a:ext cx="81374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صول على ادلة اثبات مناسبة وكافية تصلح كأساس للنتائج التى تم التوصل اليها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33240" y="4467240"/>
            <a:ext cx="81378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حة النتائج التى تم التوصل اليها فى ضوء الظروف المحيطة وان التقارير المعدة متفقة مع هذه النتائج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20640" y="4861080"/>
            <a:ext cx="81374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اية موضوعات غير عادية كشفت عنها اعمال المراجعة الداخلية قد تم ايضاحها أو تسويتها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Blackpearl%20w%5B047%5Dcop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69880" y="603360"/>
            <a:ext cx="777708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فصل</a:t>
            </a:r>
            <a:r>
              <a:rPr b="0" lang="en-GB" sz="24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تاسع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علاق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بين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مراجع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خارجي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المراجع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داخلية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أحمد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جمال</a:t>
            </a:r>
            <a:r>
              <a:rPr b="0" lang="ar-SA" sz="2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حمدالله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ز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يل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جمعية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حاسبي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المراجعي</a:t>
            </a: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صرية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صور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شركاه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براي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ترهاو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كوبرز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PwC_Logo"/>
                <a:ea typeface="PwC_Logo"/>
              </a:rPr>
              <a:t>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8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علاق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بي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خارج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و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48480" y="1525680"/>
            <a:ext cx="3082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هداف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79840" y="1957320"/>
            <a:ext cx="35215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طاق عمل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30440" y="2490840"/>
            <a:ext cx="356076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مفهوم الحديث ل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92320" y="3036960"/>
            <a:ext cx="4251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مفاهيم الأساسية للتعريف الحديث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08280" y="3544920"/>
            <a:ext cx="3532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- تقارير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30960" y="4154400"/>
            <a:ext cx="3379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لاقة مع المراجع الخارج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35160" y="4751280"/>
            <a:ext cx="375624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فحص وتقييم عمل المراجع الداخل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80360" y="5322960"/>
            <a:ext cx="5232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تقييم عمل معين من اعمال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03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أهداف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29200" y="3071880"/>
            <a:ext cx="294984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وتقييم انظمة الرقاب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تطويرها بتكاليف مناسبة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94360" y="4533840"/>
            <a:ext cx="2806920" cy="8128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58080" y="2995560"/>
            <a:ext cx="2806560" cy="749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19440" y="5880240"/>
            <a:ext cx="280692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-495360" y="4214880"/>
            <a:ext cx="365760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اكد من الألتزام بالخطط والسياس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الأجراءات الأدا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0640" y="1397160"/>
            <a:ext cx="7837560" cy="110304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6040" y="2946240"/>
            <a:ext cx="288324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0520" y="516888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401148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5920" y="5305320"/>
            <a:ext cx="299232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أكد من صحة وسلامة المعلومات الصادرة عن نظام المعلومات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70640" y="4809960"/>
            <a:ext cx="1879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ييم كفأة الأداء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37000" y="6004080"/>
            <a:ext cx="3041640" cy="10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just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ديم التوصيات اللازمة لتحسين الخطط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just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النظم والسياسات والأجراء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41480" y="1700280"/>
            <a:ext cx="758196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هدف المراجعة الداخلية الى مساعدة الأدارة فى القيام بوظائفها عن طريق امدادها بالتحليل والتقييم المناسب للأنشطة التى يتولى مراجعتها </a:t>
            </a:r>
            <a:r>
              <a:rPr b="1" lang="ar-SA" sz="16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من خلال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060360" y="3213000"/>
            <a:ext cx="163836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048120" y="4292640"/>
            <a:ext cx="165096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3098880" y="5397480"/>
            <a:ext cx="158760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24280" y="2552760"/>
            <a:ext cx="0" cy="334008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3441600"/>
            <a:ext cx="133380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11680" y="4851360"/>
            <a:ext cx="129528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6000" y="3006720"/>
            <a:ext cx="313668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اكد من حماية اصول الشركة من الأختلاس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والضياع أو سوء الأستخدام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2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نطاق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62720" y="4229280"/>
            <a:ext cx="2806560" cy="812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524560" y="2690640"/>
            <a:ext cx="2806560" cy="8128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549760" y="5613480"/>
            <a:ext cx="280692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57480" y="1397160"/>
            <a:ext cx="6375240" cy="73476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11080" y="2755800"/>
            <a:ext cx="280692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87400" y="5600880"/>
            <a:ext cx="280656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2960" y="427824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65160" y="1541520"/>
            <a:ext cx="7581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مكن تقسيم اعمال المراجعة الداخلية الى فرعين اساسيين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09680" y="2413080"/>
            <a:ext cx="4788000" cy="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09680" y="2425680"/>
            <a:ext cx="0" cy="3175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997680" y="2425680"/>
            <a:ext cx="0" cy="279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46440" y="2146320"/>
            <a:ext cx="0" cy="26676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90280" y="2854440"/>
            <a:ext cx="29970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مراجعة المحاسبية والم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/Accounting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8440" y="2828880"/>
            <a:ext cx="37940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عمليات او المراجعة الأدا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al Audit/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985080" y="3517920"/>
            <a:ext cx="0" cy="711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972480" y="5054760"/>
            <a:ext cx="0" cy="60948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46440" y="4467240"/>
            <a:ext cx="281736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وتقييم نظم الرقابة</a:t>
            </a:r>
            <a:r>
              <a:rPr b="1" lang="ar-E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 بالمنشأ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968360" y="5661000"/>
            <a:ext cx="38383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معلومات التى تصدرها النظم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للتأكد من مصداقيتها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35240" y="3568680"/>
            <a:ext cx="0" cy="698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52240" y="4378320"/>
            <a:ext cx="3589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وتقييم نظم إدارة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لحوكم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09680" y="5079960"/>
            <a:ext cx="0" cy="5209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4400" y="5749920"/>
            <a:ext cx="38318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جوانب الغير محاسب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أدارية , مراجعة العمليات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57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فهوم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حديث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ل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73280" y="3247920"/>
            <a:ext cx="78800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buClr>
                <a:srgbClr val="33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داخلية نشاط محايد موضوعىاست</a:t>
            </a:r>
            <a:r>
              <a:rPr b="1" lang="ar-EG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ى ومطمئمن , يهدف الى زيادة قيمة عمليات المنشأة وتحسينها. وتساعد المراجعة الداخلية فى تحقيق أهداف المنشأة عن طريق أسلوب منتظم ومنضبط لتقييم وتحسين فعالية إجراأت ادارة المخاطر والرقابة والحوكم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21240" y="1700280"/>
            <a:ext cx="91339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صدر مجمع المراجعين الداخليين احدث تعاريفه للمراجعة الداخلية فى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9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87320" y="2882880"/>
            <a:ext cx="7886880" cy="21718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66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فاهيم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أساس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تبط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بالتعريف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حديث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-1532160" y="1700280"/>
            <a:ext cx="12502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دى تغيير تعريف المراجعة الداخلية الى تغيير مفاهيم المراجعة الداخلية ونطاق عملها على النحو التال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272360" y="2701800"/>
            <a:ext cx="6174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19840" y="2208240"/>
            <a:ext cx="1638360" cy="111744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36960" y="2208240"/>
            <a:ext cx="1638360" cy="110484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08240" y="2233440"/>
            <a:ext cx="1638000" cy="111780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09760" y="2320920"/>
            <a:ext cx="169092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ييم وتحسين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جراء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دارة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14480" y="2346480"/>
            <a:ext cx="197892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ييم وتحسين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جراء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رقابة والحوكم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25520" y="2397240"/>
            <a:ext cx="17366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داخلية من خارج المنشأ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603840" y="3782880"/>
            <a:ext cx="2057400" cy="2590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26160" y="3857760"/>
            <a:ext cx="2187720" cy="29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خاطر الأعمال هى عدم تحقيق الأدارة لأهدافها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سئولية الأدارة اعداد برنامج مواجهة هذه المخاطر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اهداف المراجعة الداخلية تقييم وتحسين إجراءات إدارة المخاطر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عتبر من انواع المراجعة الأدارية التى تهدف الى تقييم كفاءة وفعالية ادارة المنشأة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797280" y="3808440"/>
            <a:ext cx="2057400" cy="2603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54080" y="3821040"/>
            <a:ext cx="2057400" cy="2590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36880" y="3908520"/>
            <a:ext cx="1974960" cy="30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رقابة أداة للتأكد من الألتزام بالخطط والسياسات لتحقيق أهداف المنشأة بأقصى قدر ممكن من الكفأة والفاعلية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وكمة هى مجموعة إجراءات الرقابة التى يمارسها أصحاب المصالح فى المنشأة للرقابة على ما تقوم إدارة المنشأة من إجراءات رقابة وادارة للمخاطر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ctr" rtl="1">
              <a:lnSpc>
                <a:spcPct val="99000"/>
              </a:lnSpc>
              <a:buClr>
                <a:srgbClr val="33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41480" y="3882960"/>
            <a:ext cx="220824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الموارد المشتركة )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يام المراجع الخارجىبجزء من اعمال المراجعة الداخلية وبالتنسيق معها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الموارد الخارجية)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يام المراجع الخارجى بجميع اعمال المراجعة الداخلية 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07160" y="3340080"/>
            <a:ext cx="0" cy="4572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711680" y="3327480"/>
            <a:ext cx="0" cy="482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08160" y="3365640"/>
            <a:ext cx="0" cy="482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-15228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8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26676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49520" y="35053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التقارير الشه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ea typeface="Arial"/>
              </a:rPr>
              <a:t> </a:t>
            </a: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والسنو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00680" y="3429000"/>
            <a:ext cx="1587240" cy="9907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تقارير ورش العمل عن</a:t>
            </a:r>
            <a:endParaRPr b="0" lang="en-US" sz="1300" spc="-1" strike="noStrike">
              <a:solidFill>
                <a:srgbClr val="111111"/>
              </a:solidFill>
              <a:latin typeface="Times New Roman"/>
            </a:endParaRPr>
          </a:p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مشاكل المخاطر والرقابة</a:t>
            </a:r>
            <a:endParaRPr b="0" lang="en-US" sz="13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198108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ارير متابع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62520" y="528336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المذكر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137360" y="19177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مذكرات وتقاري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ea typeface="Arial"/>
              </a:rPr>
              <a:t> </a:t>
            </a: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للمناقش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26360" y="3225960"/>
            <a:ext cx="154908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ارير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94440" y="19303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ارير مدى الألتزام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03520" y="198108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رير عن مشروع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945480" y="5283360"/>
            <a:ext cx="154908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التقارير الرسم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67560" y="1413000"/>
            <a:ext cx="344808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نواع التقارير من حيث  المضمون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94200" y="4746600"/>
            <a:ext cx="3130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واع التقارير من حيث الشكل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2360" y="1865160"/>
            <a:ext cx="8523360" cy="274500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8280" y="5156280"/>
            <a:ext cx="8483760" cy="12445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76520" y="53593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تقارير بأسلوب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</a:t>
            </a:r>
            <a:r>
              <a:rPr b="1" lang="ar-EG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تصنيف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0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20640" y="165240"/>
            <a:ext cx="6888240" cy="9777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1520"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نواع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لتقارير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حيث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لمضمون</a:t>
            </a:r>
            <a:r>
              <a:rPr b="0" lang="en-GB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</a:t>
            </a:r>
            <a:r>
              <a:rPr b="0" lang="en-GB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</a:t>
            </a:r>
            <a:r>
              <a:rPr b="0" lang="ar-SA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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620640" y="1397160"/>
          <a:ext cx="8218440" cy="5308560"/>
        </p:xfrm>
        <a:graphic>
          <a:graphicData uri="http://schemas.openxmlformats.org/drawingml/2006/table">
            <a:tbl>
              <a:tblPr/>
              <a:tblGrid>
                <a:gridCol w="5218200"/>
                <a:gridCol w="3000240"/>
              </a:tblGrid>
              <a:tr h="91584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 مذكرات وتقارير للمناقشة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0" rIns="274320" tIns="0" bIns="46800" anchor="t">
                      <a:noAutofit/>
                    </a:bodyPr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 - تقارير مدى الألتزام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45872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تقرير عن مشروع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96236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4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 تقارير متابعة 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521280" y="1465200"/>
            <a:ext cx="628704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ى تقارير مبدئية تمثل نقاط للمناقشة حول النتائج المبدئية لمراجعت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بين المراجع والجهات او الأدارات التى قام بمراجعت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20640" y="3290760"/>
            <a:ext cx="523404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67320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قصد بمراجعة مشروع هو مراجعة عمل معين اووحدات معينة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تقرير فحص مشروع للإ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تقارير فحص الأعمال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فحص تقارير التنفيذ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تقارير الفحص النافى للجهال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ختلف بأختلاف المشروع و متطلبات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20640" y="2386080"/>
            <a:ext cx="520884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ازال مراجعة مدى الألتزام وتقديم تقارير عنه جانب له اهمية كبرى لدى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ادة ما تتم مراجعة مدى الألتزام بأستخدام قوائم الأستقصاء النمط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الأفضل ان يتضمن فقط  مناطق عدم اللتزام 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8080" y="4805280"/>
            <a:ext cx="495324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يجب متابعة نتائج المراجعة للتأكد من تنفيذ التوصيات التى أتفق عليها عن طريق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lvl="1" marL="762120" indent="-2793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حصول على مصادقات الأدارة عما قامت به من إجراءات تصحيح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lvl="1" marL="762120" indent="-2793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إجراء اختبارات متابعة بواسطة المراجع الداخلى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lvl="1" marL="762120" indent="-2793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متابعة التقليدية للمراجعة فى حالة اكتشاف اخطاء هامة او مستوى مخاطر مرتفع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20:57:47Z</dcterms:created>
  <dc:creator>AMERRITT</dc:creator>
  <dc:description/>
  <dc:language>en-US</dc:language>
  <cp:lastModifiedBy>agamal</cp:lastModifiedBy>
  <cp:lastPrinted>2000-08-01T20:59:04Z</cp:lastPrinted>
  <dcterms:modified xsi:type="dcterms:W3CDTF">2003-04-29T13:22:05Z</dcterms:modified>
  <cp:revision>310</cp:revision>
  <dc:subject/>
  <dc:title>No Slide Title</dc:title>
</cp:coreProperties>
</file>